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72C-F1FC-4075-9964-F62FC14D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B70-9035-44F9-82AB-081C2BA8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AF7-6277-47F9-BF78-9D795F3D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108-BCEA-430B-AB55-622B99D1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FF7-E75E-408B-B0CD-0A382888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4C1-97DA-4D10-B8D8-7D4B4B76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B0B-FAB2-4525-AF69-55FD2509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DF0-3AB3-42C2-8E0B-D7AE4C7C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D45-5A36-4789-845A-DDF4703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5F1-650E-45CA-A12C-C7BB717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AFA-7F6D-4A0D-A5EC-B31F1E6A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D01-3782-4205-92AD-6523663C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AD02-EDF6-487D-9104-B1B688172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0560" y="1117080"/>
            <a:ext cx="8447040" cy="12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ritique of a TV Commer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51160" y="2743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90880" y="6095880"/>
            <a:ext cx="5164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: Erin, Brandee and Conni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1: Define the produ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watched a commercial for _________.  The company is 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0160" y="27432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2: Describe the com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happened in the commercia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rst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n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ter that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lly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end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30211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3: Analyze the com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time of day did you see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show were you watching when you saw the commercia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were the important things in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id you remember most about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 do you think the commercial was made fo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59120" y="4368960"/>
            <a:ext cx="280836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4: How does the commercial try to persuade the audien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mmercial uses __________ to try to persuade the audience.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: musi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nguage (the best, the most afford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lebrities, et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xt (large, colorful fon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ts (doctors say..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84880" y="4673520"/>
            <a:ext cx="35910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5: Do you think the commercial is realistic or honest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9679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my opinion, the commercial is/is not _______________ because _________________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41680" y="3251160"/>
            <a:ext cx="4825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ep 6: Do you like the commercial?  Why or why not?  Would you buy the produc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969560"/>
            <a:ext cx="950760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like this commercial because 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don't like this commercial becau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would/would not buy this product becau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07400" y="5380200"/>
            <a:ext cx="2147760" cy="231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10280" y="3149640"/>
            <a:ext cx="18306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